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D3C-2E66-47AE-A3D2-48C1D5F0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12F-B9BD-460F-B92E-2870A9D7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144-2AE8-4B6A-887E-CA232446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D87-4044-4022-8FD5-0766D3A4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1B2-CC72-4144-80F3-CC34634B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B5B-9738-4CFD-8225-56C99AD6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B3F-321E-41D0-A8D7-4B0DAC2E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C15-90E9-4750-B0C2-84AB18B8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38E-F480-45A6-A44B-CD149AA2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E79-3173-445A-AB7A-B400CA4E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A65-251E-4FAF-B5FA-23EDB605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DB7-E6B2-4AE8-B089-66949C42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A1ED-587D-4346-B7BA-69971048A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mmunitycollege.net/jobs/hotjobs.html" TargetMode="External"/><Relationship Id="rId2" Type="http://schemas.openxmlformats.org/officeDocument/2006/relationships/hyperlink" Target="http://www.communitycollege.net/jobs/hotjobs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The After School Spe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With this project, you will be looking at your life in the future.  You will estimate your monthly income, and how it could be s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8560" y="210456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You will answer the follow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at do I want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ere do I want to l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How much money will I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How much money will I REALLY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at will I do with this mon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This project will be presented in a PowerPoint, and MUST be in the proper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THE PowerPoint and worksheets must be saved in an e-fol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For all parts, I suggest doing a rough copy in pencil before adding it to the presentation…your answers WIL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Your first order of business is to find a job, and research the following important aspec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Job title, description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Hours worked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Education and experienc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Gross Monthly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Transferabl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mount of holidays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y this is the perfect job for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26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While researching these aspect of your career, you may want to try these si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Matches your personality to your possible car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communitycollege.net/jobs/hotjob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This one will help choose a possible car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apping-your-future.org/features/careership/match_career.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his one will indicate what your salary might 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wz.salary.com/csalarywizard/layoutscripts/cswzl_newsearch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his one will outline job descriptions and responsi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23.hrdc-drhc.gc.ca/2001/e/generic/nocsearch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Videos for your potential car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www.unitedstream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Feel free to aim high…you are all smart enough to do well, but be real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If you were headed to the NHL, you’d already be on your w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Unless you are told specifically, there is an $8000/month ceiling on your ear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PLEASE create an e-folder entitled After School Special</a:t>
            </a:r>
            <a:r>
              <a:rPr b="0" i="1" lang="en-US" sz="3200" spc="-1" strike="noStrike">
                <a:solidFill>
                  <a:srgbClr val="99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You will use this to store researched info and e-work sh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Please record all of this information into the first section of your presentation, under the title “My Care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0:30:26Z</dcterms:created>
  <dc:creator>nbdoe</dc:creator>
  <dc:description/>
  <dc:language>en-US</dc:language>
  <cp:lastModifiedBy>nbdoe</cp:lastModifiedBy>
  <dcterms:modified xsi:type="dcterms:W3CDTF">2007-05-01T00:30:36Z</dcterms:modified>
  <cp:revision>1</cp:revision>
  <dc:subject/>
  <dc:title>The After School Special</dc:title>
</cp:coreProperties>
</file>